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ct" ContentType="image/x-pict"/>
  <Override PartName="/ppt/media/image13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gif" ContentType="image/gif"/>
  <Override PartName="/ppt/media/image7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12.gif" ContentType="image/gif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DCD-A478-498B-8098-F89C87F7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5D2-CD1B-4FC4-9F2D-FCC22A10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C3E-8102-44C4-99D7-4DEC88EC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106-25D2-4F03-AB15-97AB799D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BBE9-F8F4-4413-AFC0-A43796C0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27E8-4409-4A9F-A811-216808FA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E739-D8B0-4597-9892-867FE009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0F00-377A-4061-ABF5-2FBCAFD1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0226-C268-4FF8-BE9B-9AF1F12D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2DCD-961B-47FF-9250-87731FD9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45FC-336B-4400-B4B6-6573FE1A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5DB-E636-4209-B223-1FCD9F9C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5B7D-C676-46D7-B043-EC8BA7F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D714-957E-47C6-8A82-CC084F2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B7B4-DAC1-4607-9B2A-AADE6295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2B4A-C5A3-40CC-AEFE-D98EEA75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BC0F-3B05-486A-BDB5-9E2B3D26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F951-33AB-4A20-980E-84575E31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B330-7F78-48F1-A954-82F09177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A210-C3A1-4C17-BA15-5BDC2E46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F97F-8FE4-47F2-BD41-3D6ECBB5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1CA8-BB4F-433A-BC8A-0F439DD2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FDE-A96B-418B-8CDB-891B93F0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26DE-541B-4BF1-A317-6F5EC897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52D91-3B03-4A4E-91CA-E2A9BDD1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80ED-5F0F-4276-9D62-EDC21ACD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8B9D-90CA-47B2-9980-17D6715A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1A75-459F-4D70-BA33-AF2EE917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C12D-2FF5-483D-B756-B766678E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4D42-F3A4-4FB9-A700-FA4A7BBD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AD95-6774-41E2-9AD1-DFA01562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EAC2E-B7D2-42B6-8E4E-301B03EE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C13BA-9D9C-4A62-AA6F-1682AE90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145-47FC-447F-A31D-A223D83F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C10E-6CA6-4EE0-81F4-A84515D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8763-E0BB-43E2-8B76-E0C10865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824F-8860-4A4F-9B79-5D0B6957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0707-F797-432E-BC21-9E62DAC4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795A-12C0-41D6-9887-C1BBB739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24BE-4963-4C99-B726-247BCF68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9BA20-1AF1-4ED2-A133-D5869C7F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86CCB-FE7B-413D-A7F1-5013602A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2E003-C6E7-45FA-B7B1-60B7D912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FC2A-A924-45FB-B3D8-E4FD2225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0B4-D9D0-42AC-AF02-A86E4D9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7E7C-19C1-4357-B3F5-F9183273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AF194-8DED-4B9D-ACB7-DC0F32FD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AD33F-5323-428C-9DAB-DBA06846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D07C-08E9-49F5-9ADA-4CB38B84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98B7-4495-4C9E-AF9C-B0125864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18EA6-D731-4A0D-8F2B-E7452E14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8B144-6C6F-4C0C-BD1D-025B1E26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5EEF-DB67-47DA-972D-38D670B5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7A3DB-CED1-4CF2-9DBF-BA61DC80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5D0FC-2623-45EB-A317-34C99601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7BD-37BE-4A20-9E22-C5BB361D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29EB-8326-4C06-B94E-B01770A7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66FD-2F5E-4E2B-916C-FCCCE84D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DBC88-AC90-47D3-870B-E2B25770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F8FD8-7091-4C21-9266-EB11E537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5CEB3-7121-425A-B178-00A6AF52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A0EB8-DCAD-4414-9B1B-88239859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68BFE-4A18-4CF5-A557-4EC8C3F5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01920-513B-4A1D-B660-998B3FEE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CA95F-5775-41A7-89A2-C8A948F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3C283-BF5C-40ED-BBE9-D37F3377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10C-ACA3-438C-8CCD-48E1CBF6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73CD9-FED9-4498-94E9-23CC7B29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88800-F5E2-4635-B670-4D611410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45E81-43F8-4F41-B4C1-CC3D4420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334-F163-4FA6-A165-C54C353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505-2A76-4F46-8FA4-DE2E74A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83F-E744-4D34-B072-0098E93C8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0157-7B59-4C9E-987D-46A18BEE1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1B90-8982-4700-B602-C53FCA293A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CA74-420F-4705-A8A0-CF2364FA89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2A18-9CA7-40E7-B6A4-88F9CF2F0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D6E6-B7BC-49E3-878A-BEC43F40A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aa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8080" y="838080"/>
            <a:ext cx="71629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ases and the Atmosphe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76520" y="2486160"/>
            <a:ext cx="563868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3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315e"/>
                </a:solidFill>
                <a:latin typeface="Arial"/>
              </a:rPr>
              <a:t>Volume- amount of space a gas takes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3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315e"/>
                </a:solidFill>
                <a:latin typeface="Arial"/>
              </a:rPr>
              <a:t>Temperature- average kinetic energy of the gas partic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3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315e"/>
                </a:solidFill>
                <a:latin typeface="Arial"/>
              </a:rPr>
              <a:t>Pressure- amount of force gas particles exert on the sides of a contain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d3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315e"/>
                </a:solidFill>
                <a:latin typeface="Arial"/>
              </a:rPr>
              <a:t>Concentration- amount of gas particles in a given spa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057400" y="38088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 Conditions of a Ga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04920" y="3049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086600" y="974520"/>
            <a:ext cx="1295640" cy="29959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 at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3" name="Picture 13" descr="j0232896"/>
          <p:cNvPicPr/>
          <p:nvPr/>
        </p:nvPicPr>
        <p:blipFill>
          <a:blip r:embed="rId1"/>
          <a:stretch/>
        </p:blipFill>
        <p:spPr>
          <a:xfrm>
            <a:off x="6324480" y="4343400"/>
            <a:ext cx="2210040" cy="2514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533520" y="1295280"/>
            <a:ext cx="4216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mount of force </a:t>
            </a:r>
            <a:endParaRPr b="0" lang="en-US" sz="2400" spc="1" strike="noStrike">
              <a:ln w="0">
                <a:noFill/>
              </a:ln>
              <a:solidFill>
                <a:srgbClr val="ffff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erted in a certain area</a:t>
            </a:r>
            <a:endParaRPr b="0" lang="en-US" sz="2400" spc="1" strike="noStrike">
              <a:ln w="0">
                <a:noFill/>
              </a:ln>
              <a:solidFill>
                <a:srgbClr val="ffff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657600" y="3276720"/>
            <a:ext cx="32814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e atmospher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erts pressure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(gases have mass.)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5"/>
          <p:cNvSpPr txBox="1"/>
          <p:nvPr/>
        </p:nvSpPr>
        <p:spPr>
          <a:xfrm>
            <a:off x="380880" y="2286000"/>
            <a:ext cx="6791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 atm or atmosphere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1905120" y="3581280"/>
            <a:ext cx="68054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760 mm Hg (mercury)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4267080" y="59436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bc577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760 torr </a:t>
            </a:r>
            <a:endParaRPr b="0" lang="en-US" sz="2400" spc="1" strike="noStrike">
              <a:ln w="0">
                <a:noFill/>
              </a:ln>
              <a:solidFill>
                <a:srgbClr val="ebc577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9" name="WordArt 8"/>
          <p:cNvSpPr txBox="1"/>
          <p:nvPr/>
        </p:nvSpPr>
        <p:spPr>
          <a:xfrm>
            <a:off x="228600" y="4876920"/>
            <a:ext cx="5638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01.325 kiloPascals</a:t>
            </a:r>
            <a:endParaRPr b="0" lang="en-US" sz="2400" spc="1" strike="noStrike">
              <a:ln w="0">
                <a:noFill/>
              </a:ln>
              <a:solidFill>
                <a:srgbClr val="ffcc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609480" y="38088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nits of Pressure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276720" y="2438280"/>
            <a:ext cx="25700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ff0000"/>
                  </a:solidFill>
                  <a:prstDash val="sysDot"/>
                  <a:miter/>
                </a:ln>
                <a:solidFill>
                  <a:srgbClr val="0000ff"/>
                </a:solidFill>
                <a:latin typeface="Arial Black"/>
              </a:rPr>
              <a:t>STP</a:t>
            </a:r>
            <a:endParaRPr b="0" lang="en-US" sz="6000" spc="1" strike="noStrike">
              <a:ln w="25560">
                <a:solidFill>
                  <a:srgbClr val="ff0000"/>
                </a:solidFill>
                <a:prstDash val="sysDot"/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981080"/>
            <a:ext cx="2260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0404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Stand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40404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8120" y="160020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0404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Temperat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40404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77120" y="2057400"/>
            <a:ext cx="2260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0404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Press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40404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9810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0000"/>
                </a:solidFill>
                <a:latin typeface="Arial"/>
              </a:rPr>
              <a:t>0ºC</a:t>
            </a:r>
            <a:endParaRPr b="0" lang="en-US" sz="6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24480" y="3733920"/>
            <a:ext cx="2286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0000"/>
                </a:solidFill>
                <a:latin typeface="Arial"/>
              </a:rPr>
              <a:t>1 atm</a:t>
            </a:r>
            <a:endParaRPr b="0" lang="en-US" sz="6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 rot="5400000">
            <a:off x="-2781360" y="308592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sure and Volu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47920" y="0"/>
            <a:ext cx="751824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s pressure increases, volume decrease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. Piston in car eng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895480" y="380880"/>
            <a:ext cx="348156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375e1"/>
                </a:solidFill>
                <a:latin typeface="Arial Black"/>
              </a:rPr>
              <a:t>Boyle's La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375e1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1752480"/>
            <a:ext cx="3276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600" y="2590920"/>
            <a:ext cx="8686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.  A sample of carbon dioxide occupies 638 mL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t 0.893 atm.  What volume will it occupy if the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ressure is changed to 1.25 atm?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4800600"/>
            <a:ext cx="868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d315e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ressure is high at a deep-sea station under the Pacific.  </a:t>
            </a:r>
            <a:endParaRPr b="0" lang="en-US" sz="2400" spc="1" strike="noStrike">
              <a:ln w="0">
                <a:noFill/>
              </a:ln>
              <a:solidFill>
                <a:srgbClr val="2d315e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d315e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many liters of gas at STP must be compressed to fill </a:t>
            </a:r>
            <a:endParaRPr b="0" lang="en-US" sz="2400" spc="1" strike="noStrike">
              <a:ln w="0">
                <a:noFill/>
              </a:ln>
              <a:solidFill>
                <a:srgbClr val="2d315e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d315e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e station with 2.00 x 10^7 L of gas at 20.0 atm?</a:t>
            </a:r>
            <a:endParaRPr b="0" lang="en-US" sz="2400" spc="1" strike="noStrike">
              <a:ln w="0">
                <a:noFill/>
              </a:ln>
              <a:solidFill>
                <a:srgbClr val="2d315e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Relationship:  Volume and Temperatur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90560" y="266652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 temperature increases, volume increases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.  Balloon in hot weath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209680" y="304920"/>
            <a:ext cx="396108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a4bff"/>
                </a:solidFill>
                <a:latin typeface="Arial Black"/>
              </a:rPr>
              <a:t>Charles's La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a4bff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1523880"/>
            <a:ext cx="38098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 = V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4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2743200"/>
            <a:ext cx="8610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sample of carbon dioxide has a volume of 750. mL 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t 12 C.  At what temp will the gas occupy 1.0 L of space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5410080"/>
            <a:ext cx="90676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child gets a 2.30 L balloon at a temp of 311 K.  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at will the volume of the balloon be in her house at 295 K?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d1ff"/>
            </a:gs>
            <a:gs pos="100000">
              <a:srgbClr val="4e56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28600" y="304920"/>
            <a:ext cx="501660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Relationship between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pressure and temperature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81160" y="2209680"/>
            <a:ext cx="6781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287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 pressure increases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95280" y="5943600"/>
            <a:ext cx="624852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emperature incre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1066680" y="3200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5334120" y="2971800"/>
            <a:ext cx="1623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4bff"/>
            </a:gs>
            <a:gs pos="100000">
              <a:srgbClr val="a4d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 rot="20181000">
            <a:off x="0" y="837720"/>
            <a:ext cx="4495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Gay-Lussac's La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1523880"/>
            <a:ext cx="38098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 = P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4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0880" y="2590920"/>
            <a:ext cx="8382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prstDash val="sysDot"/>
                  <a:miter/>
                </a:ln>
                <a:solidFill>
                  <a:srgbClr val="f20f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sample of nitrogen at 27 C and 0.625 atm increases in</a:t>
            </a:r>
            <a:endParaRPr b="0" lang="en-US" sz="2400" spc="1" strike="noStrike">
              <a:ln w="6480">
                <a:solidFill>
                  <a:srgbClr val="000000"/>
                </a:solidFill>
                <a:prstDash val="sysDot"/>
                <a:miter/>
              </a:ln>
              <a:solidFill>
                <a:srgbClr val="f20f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prstDash val="sysDot"/>
                  <a:miter/>
                </a:ln>
                <a:solidFill>
                  <a:srgbClr val="f20f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ressure to 1.125 atm.  What is the new temperature?</a:t>
            </a:r>
            <a:endParaRPr b="0" lang="en-US" sz="2400" spc="1" strike="noStrike">
              <a:ln w="6480">
                <a:solidFill>
                  <a:srgbClr val="000000"/>
                </a:solidFill>
                <a:prstDash val="sysDot"/>
                <a:miter/>
              </a:ln>
              <a:solidFill>
                <a:srgbClr val="f20f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2280" y="5638680"/>
            <a:ext cx="883944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t 84 C a gas has a pressure of 725.5 mm.  At what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emp would the pressure be 778.3 mm?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380880"/>
            <a:ext cx="7696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f67ff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Earth's atmsophere is made of </a:t>
            </a:r>
            <a:endParaRPr b="0" lang="en-US" sz="2400" spc="1" strike="noStrike">
              <a:ln w="9360">
                <a:solidFill>
                  <a:srgbClr val="af67ff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f67ff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many gases:</a:t>
            </a:r>
            <a:endParaRPr b="0" lang="en-US" sz="2400" spc="1" strike="noStrike">
              <a:ln w="9360">
                <a:solidFill>
                  <a:srgbClr val="af67ff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90720" y="2133720"/>
            <a:ext cx="29718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74 % Nitro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828800" y="2971800"/>
            <a:ext cx="26924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3 % Oxy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666880" y="3809880"/>
            <a:ext cx="3505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 % Water vap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038480" y="4572000"/>
            <a:ext cx="3505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 % Other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0574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28195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373392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5334120"/>
            <a:ext cx="4496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Ar, He, H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171880" y="6019920"/>
            <a:ext cx="480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mbined Gas La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33480" y="304920"/>
            <a:ext cx="727704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ombines Boyle's Law, Charles's Law, </a:t>
            </a:r>
            <a:endParaRPr b="0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d Gay-Lussac's Law</a:t>
            </a:r>
            <a:endParaRPr b="0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86080" y="1523880"/>
            <a:ext cx="61722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P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V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T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 = P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V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T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endParaRPr b="0" lang="en-US" sz="6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86080" y="228600"/>
            <a:ext cx="61722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P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V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T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 = P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V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2</a:t>
            </a:r>
            <a:r>
              <a:rPr b="0" lang="en-US" sz="6100" spc="-1" strike="noStrike">
                <a:solidFill>
                  <a:srgbClr val="040404"/>
                </a:solidFill>
                <a:latin typeface="Arial"/>
              </a:rPr>
              <a:t>T</a:t>
            </a:r>
            <a:r>
              <a:rPr b="0" lang="en-US" sz="6100" spc="-1" strike="noStrike" baseline="-25000">
                <a:solidFill>
                  <a:srgbClr val="040404"/>
                </a:solidFill>
                <a:latin typeface="Arial"/>
              </a:rPr>
              <a:t>1</a:t>
            </a:r>
            <a:endParaRPr b="0" lang="en-US" sz="6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397160"/>
            <a:ext cx="925848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weather balloon at Earth's surface has a volume 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f 4.00 L at 304 K and 755 mm.  If the balloon 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s released and the volume reaches 4.08 L at 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728 mm, what is the temp?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e56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380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Dalton’s Law of Partial Press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Total pressure in a system = sum of individual pressu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Equation:  P</a:t>
            </a:r>
            <a:r>
              <a:rPr b="0" lang="en-US" sz="3200" spc="-1" strike="noStrike" baseline="-25000">
                <a:solidFill>
                  <a:srgbClr val="0c12d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0c12d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 + P</a:t>
            </a:r>
            <a:r>
              <a:rPr b="0" lang="en-US" sz="3200" spc="-1" strike="noStrike" baseline="-25000">
                <a:solidFill>
                  <a:srgbClr val="0c12d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 + P</a:t>
            </a:r>
            <a:r>
              <a:rPr b="0" lang="en-US" sz="3200" spc="-1" strike="noStrike" baseline="-25000">
                <a:solidFill>
                  <a:srgbClr val="0c12d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12d6"/>
                </a:solidFill>
                <a:latin typeface="Arial"/>
              </a:rPr>
              <a:t>Collecting a gas over wa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12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Picture 3" descr="gas over water.jpg"/>
          <p:cNvPicPr/>
          <p:nvPr/>
        </p:nvPicPr>
        <p:blipFill>
          <a:blip r:embed="rId1"/>
          <a:stretch/>
        </p:blipFill>
        <p:spPr>
          <a:xfrm>
            <a:off x="5230800" y="3657600"/>
            <a:ext cx="34560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474920" y="2135160"/>
            <a:ext cx="6197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ir is a solution.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s means that air has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same composition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verywhere in the world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380880"/>
            <a:ext cx="883908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do the gases in the atmosphere behave?  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e need to look at the gases particles that make them up.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1600200"/>
            <a:ext cx="3657600" cy="6094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etic Molecular The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666880"/>
            <a:ext cx="3048120" cy="990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atter is mad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particl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2438280"/>
            <a:ext cx="3733920" cy="10670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particles move 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, random,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ight-line mo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038480"/>
            <a:ext cx="3352680" cy="10670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All collisions a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ly elastic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no loss of energy.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038480"/>
            <a:ext cx="3200400" cy="990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There are no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active no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ulsive forc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5410080"/>
            <a:ext cx="5867280" cy="11430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The kinetic energy of the particl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found using the equat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 = 1/2 mv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8" idx="0"/>
            <a:endCxn id="257" idx="2"/>
          </p:cNvCxnSpPr>
          <p:nvPr/>
        </p:nvCxnSpPr>
        <p:spPr>
          <a:xfrm flipV="1">
            <a:off x="1523520" y="2209320"/>
            <a:ext cx="2972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0" idx="0"/>
            <a:endCxn id="257" idx="2"/>
          </p:cNvCxnSpPr>
          <p:nvPr/>
        </p:nvCxnSpPr>
        <p:spPr>
          <a:xfrm flipV="1">
            <a:off x="2362320" y="2209320"/>
            <a:ext cx="213408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"/>
          <p:cNvCxnSpPr>
            <a:stCxn id="259" idx="0"/>
            <a:endCxn id="257" idx="2"/>
          </p:cNvCxnSpPr>
          <p:nvPr/>
        </p:nvCxnSpPr>
        <p:spPr>
          <a:xfrm flipH="1" flipV="1">
            <a:off x="4495320" y="2208960"/>
            <a:ext cx="2782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"/>
          <p:cNvCxnSpPr>
            <a:stCxn id="261" idx="0"/>
            <a:endCxn id="257" idx="2"/>
          </p:cNvCxnSpPr>
          <p:nvPr/>
        </p:nvCxnSpPr>
        <p:spPr>
          <a:xfrm flipH="1" flipV="1">
            <a:off x="4494960" y="2209320"/>
            <a:ext cx="175356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57" idx="2"/>
            <a:endCxn id="262" idx="0"/>
          </p:cNvCxnSpPr>
          <p:nvPr/>
        </p:nvCxnSpPr>
        <p:spPr>
          <a:xfrm>
            <a:off x="4495680" y="2209680"/>
            <a:ext cx="11520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28600" y="228600"/>
            <a:ext cx="492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roperties of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1219320"/>
            <a:ext cx="92203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xpansion- the ability to get bigger.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ases can expand to thousand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f times their original volume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245120" y="2922480"/>
            <a:ext cx="1557360" cy="2411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8920" y="1219320"/>
            <a:ext cx="8966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Fluidity- ability to flow.  Gases flow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easily and are the best fluid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828800" y="40384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28600" y="228600"/>
            <a:ext cx="492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roperties of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68280" y="1219320"/>
            <a:ext cx="840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hape- indefinite.  Gases take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shape of their container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743200"/>
            <a:ext cx="92203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Volume- indefinite. Amount of spac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a gas takes up.  Gases fill up th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volume of their containers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14880" y="4762440"/>
            <a:ext cx="2781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28600" y="228600"/>
            <a:ext cx="492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roperties of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9320" y="1066680"/>
            <a:ext cx="90946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ensity- amount of mass in 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ertain volume.  Gases have ver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ow densities. (Water- 1.00 g/mL;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xygen- 0.001 g/mL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62120" y="3970440"/>
            <a:ext cx="2514600" cy="2003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1954080" cy="1954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76320" y="990720"/>
            <a:ext cx="90676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Compressibility- ability to be squeeze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together.  Gases cannot compress a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much as they can expand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28600" y="228600"/>
            <a:ext cx="492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roperties of Ga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1219320"/>
            <a:ext cx="8076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iffusion- spreading out of a g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 evenly mix with another g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3733920"/>
            <a:ext cx="868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Effusion- spreading out through 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mall opening into another contai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2d6"/>
            </a:gs>
            <a:gs pos="100000">
              <a:srgbClr val="2d31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905120" y="2514600"/>
            <a:ext cx="44193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al vs. Ide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71800" y="3886200"/>
            <a:ext cx="572760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deal gases follow all five part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f the kinetic theory.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228600" y="380880"/>
            <a:ext cx="923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Real gases- have attractive and repulsive force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                </a:t>
            </a: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-lose energy in collisions due to friction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                </a:t>
            </a: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-move in curve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143000" y="5943600"/>
            <a:ext cx="62866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e assume all our gases are ideal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10:30Z</dcterms:created>
  <dc:creator>PA Department of Education</dc:creator>
  <dc:description/>
  <dc:language>en-US</dc:language>
  <cp:lastModifiedBy>PA Department of Education</cp:lastModifiedBy>
  <dcterms:modified xsi:type="dcterms:W3CDTF">2009-03-24T19:05:22Z</dcterms:modified>
  <cp:revision>36</cp:revision>
  <dc:subject/>
  <dc:title>PowerPoint Presentation</dc:title>
</cp:coreProperties>
</file>